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83BEF-396C-409C-958D-A0A1AF85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A9490-970F-4DDA-85F2-E38A0448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0F8A-6AB4-44CB-A521-64951403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1EDC4-432B-4BA7-AB47-3212F5CF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D0D5-B47A-411A-BC18-B765FFE0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4D94-DBB1-410D-A934-57E162C5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8644-941D-4DDD-98D9-25037954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2EAA-0DD7-44DC-B6A0-442394BD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1995-3AB8-42EA-8C4D-1C0AB518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B27D-835E-4F05-99EF-BB404912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D47D-3A4F-4BB0-9CBE-288A88BD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CEC5-AE06-4A39-B468-75EC8B9C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4AD5-EA0F-4BB8-9A0D-772CCAE4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FBE5-0B97-4EE1-8A33-AFC9CAA2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24A4-0306-483D-8571-B881611E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82E0-1035-4EB6-B0AE-E7382D32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F60D-EC5B-4560-9447-1D094D6D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0CF7-1BF5-46C2-854F-622BC321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CD327-7F19-4D12-92BD-C6B56591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855EF-D58B-4BF0-A2FA-CD82E61C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9BBB0-1731-4EF9-8125-971246DD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F92CD-91CB-4D3D-BEEA-E3F5A688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9C49C-B4BB-4936-B9DE-86DAA129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359A2-3186-4622-9D98-2A29C7F2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5C37-4A9D-4DE8-8CB5-79EE7A1AD0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4CF3-2AA0-4A8E-94CF-3D99EC169B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560" y="4797360"/>
            <a:ext cx="7677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Цифровые процессоры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бработки сигналов фирм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правляет конвейерной обработкой команд, аппаратной организацией цикл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бращением к подпрограммам и обслуживанием прерыв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ератор адреса програм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лер декодирования команд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лер прерывани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мещаю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ный счетчи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начального адреса цикл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четчик циклов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состояни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режима обработк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M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стемный сте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указателя сте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PR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ный сте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азового семейства процессо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P5600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ъемом 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ивает до 7 цикл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15 прерываний, или 15 вложенных под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A/IR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B/IRQ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C/N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лер программного прерыва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ет четыре выв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A/IRQA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B/IRQ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для установки режимов обработ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приема маскируемых запросов на прерывание (управляющих сигналов) от внешних аппаратных исто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C/NM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ется для установки режима обработки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риема немаскируемых запросов на прерывание от внешних аппаратных исто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ы обработ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ормируют конфигурацию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, Y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, а также определяют процедуру запуска процессора после его выхода из состояния сб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T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ется для установки процессора в начальное состояние, называемое состоянием сб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нератор тактовых импульсов(ГТИ) с фазовой автоподстройкой частоты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тор тактовых импульсов (ГТИ) с фазовой автоподстройкой частоты (ФАПЧ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зволяет формировать тактовые импульсы высокой частоты внутри процессора при низкочастотном внешнем задающем генераторе. Границы диапазона тактовых частот регулируются от минимальной (обычно 10МГц) до максимальной, которая зависит от возможностей внешнего генератора и коэффициента умножения, устанавливаемого программно. В состоянии останова процессора генераторное оборудование остается активным, хотя ГТИ запирается, поэтому процессор переходит на минимально возможное потребление 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9152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ы семей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ют три пор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ющий разносторонний интерфейс с внешней памятью и внешней периферией как быстродействующей, так и низкоскоростной. Порт содержит внешнюю адресную 16-разрядную шину, внешнюю 24-разрядную шину данных и шину управления пор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на управления обеспечивает управление чтением/записью по шине данных, выбор адресного пространства памяти и управление магистральной шиной при организации  многопроцессорной системы; обмен данными осуществляется в параллельном форма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рфейс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оследовательного обмена данны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т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носятся к внутрикристальной периферии; способы их использования определяются специальными регистрами данных и состояния, размещенными во внутрикристальн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ет использоваться либо как порт ввода/вывода общего назначения, либо ка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интерфейс. Второй вариант применяется в том случае, когда процессор входит в состав некоторой системы ЦОС и есть необходимость взаимодействия с ведущим процессором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ом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мен данными осуществляется по 8-разрядной шине в последовательно-параллельном формате: 24-разрядные данные делятся на три байта, которые передаются в параллельном формате последовательно друг за друг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дставляет собой последовательный интерфейс, предназначенный для дуплексного асинхронного и синхронного обменов данными с внешней периферией. Направление передачи данных на выводах пор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яется программно. Прием/передача данных осуществляется последовательно, начиная с младшего (0-го) или старшего (23-го) бита 24-разрядного слова, которое, в свою очередь, передается побайтно. Формат асинхронного слова, кроме байта данных, содержит дополнительные служебные биты и поэтому может быть 10- или 11-разряд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ется аппаратным элементом системы отладки и работает под управлением ведущего компьютера, на который инсталлируют программные средства отладки. Эмулятор обеспечивает быстрый и независимый доступ к внутренним регистрам и периферии процессора для проверки их состояния. Связь между эмулятором и компьютером осуществляется с помощью специального устройства – внешнего контроллера кома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й контроллер и программные средства отладки поставляются фирмой-производителем проц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1120" y="1773360"/>
            <a:ext cx="86425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ная структу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SP56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общенная структур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SP56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932360" y="1125360"/>
            <a:ext cx="381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юбом процессор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кристалле функционально можно выделить две ча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нтральный модуль об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бласть расш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модуль обработки является основой любого процессор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его состав входя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данных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генерации адрес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ы дан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ы адрес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в зависимости от мод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тор тактовых импульсо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фазовой автоподстройкой частоты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ФАПЧ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DSP56K"/>
          <p:cNvPicPr/>
          <p:nvPr/>
        </p:nvPicPr>
        <p:blipFill>
          <a:blip r:embed="rId1"/>
          <a:stretch/>
        </p:blipFill>
        <p:spPr>
          <a:xfrm>
            <a:off x="250920" y="1052640"/>
            <a:ext cx="4608360" cy="5545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318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403280" y="1773360"/>
            <a:ext cx="65278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компоненты архите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адр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о генерации адрес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G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тор тактовых импульсов (ГТИ) с фазово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подстройкой частоты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859280" y="1125360"/>
            <a:ext cx="388944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бласти расширения размещаютс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данных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программ и периферийные модули. Организация памяти определяется конкретным типом процесс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 центрального модуля в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адрес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U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ты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в зависимости от модифика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ератор тактовых импульсов ГТИ с фазовой автоподстройкой частот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ФАПЧ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SP56000"/>
          <p:cNvPicPr/>
          <p:nvPr/>
        </p:nvPicPr>
        <p:blipFill>
          <a:blip r:embed="rId1"/>
          <a:stretch/>
        </p:blipFill>
        <p:spPr>
          <a:xfrm>
            <a:off x="395280" y="1341360"/>
            <a:ext cx="4568760" cy="5300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84358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тся четыре двунаправленных 24-разрядных шины данны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програм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по которой передаются коман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B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ых, обеспечивающая обмен данными с внутренней или внешне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ез порт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ерифер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B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едназначены для передачи данных межд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ю, соответственно. При необходимости 24-разрядные ш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гут быть объединены в одну 48-разрядную ш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я (24-разрядная) ш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еспечивает обмен данными с внутрикристальной и внешней перифериями. Обмен данными с внешней периферией может осуществляться через внешнюю шину пор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араллельном формате, 8-разрядную шину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фейса (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следовательно-параллельном формате и через п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следовательном форма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у данных между шинами осуществ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ереключатель внутренних шин дан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Переключатель дополнительно содержит блок манипуляции битами, позволяющий управлять состоянием битов любого типа ячеек памяти данных и регист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U, PC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ы ад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ы адресов используются для адресации ячеек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две однонаправленные шины адресов дан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дн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вунаправленн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на адреса програм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A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для адрес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, соответстве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назначена для адрес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ация внешней памяти осуществляется через единственную однонаправленную шину, которая подключается 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AB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ыбором шины управляет переключатель внешней шины адреса – мультиплексор с тремя вхо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адресации внешней памяти необходимо учитывать, что в одном командном цикле доступно только одно пространство внешней памяти. В этом случае командный цикл реализуется без дополнительной задержки. Обращение к внешним пространствам памяти контролирует устройство управления ши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х выполняет все арифметические и логические операции над операндами. 24-разрядные процессоры базового семейст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P56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ют в своем соста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ыре 24-разрядных входных регис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56-разрядных аккумулятора, каждый из которых содержит 48-разрядный регистр аккумулятора и 8-разрядный регистр расши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сдвигателя/ограничителя дан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ллельное одноцикловое устройство умножения с накопл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ы расширения хранят целую часть результата. Ее максимальное значение по модулю равно 255. Возможен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жим насы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гласно которому, если 48-разрядный результат операции оказывается больше максимально допустимого (при переполнении) либо меньше минимального допустимого (при потере значимости), в процессоре автоматически устанавливается соответствующая амплитуда насы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ные регистры могут объединяться в пары, удваивая таким образом разрядность обрабатываемых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полняет все операции, связанные с определением и хранением адресов в режиме косвенной адресации. Это устройство работает независимо от остальных блоков процессора. Формирование адреса происходит параллельно с другими операциями процессора. Процессоры фир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дают чрезвычайно мощной системой адресации, позволяющей производить манипуляции с данными за один командный ци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ят два одинаковых арифметических блока, формирующие два 16-разрядных адреса в каждом командном цикле. При формировании адреса могут использоваться три типа арифметики: линейная, модульная и бит-реверсив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7:13Z</dcterms:modified>
  <cp:revision>9</cp:revision>
  <dc:subject/>
  <dc:title>Микропроцессорные системы</dc:title>
</cp:coreProperties>
</file>